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2.wmf" ContentType="image/x-wmf"/>
  <Override PartName="/ppt/media/image6.jpeg" ContentType="image/jpeg"/>
  <Override PartName="/ppt/media/image7.wmf" ContentType="image/x-wmf"/>
  <Override PartName="/ppt/media/image1.jpeg" ContentType="image/jpeg"/>
  <Override PartName="/ppt/media/image2.jpeg" ContentType="image/jpeg"/>
  <Override PartName="/ppt/media/wind.wav" ContentType="audio/x-wav"/>
  <Override PartName="/ppt/media/image11.png" ContentType="image/png"/>
  <Override PartName="/ppt/media/image3.jpeg" ContentType="image/jpeg"/>
  <Override PartName="/ppt/media/drumroll.wav" ContentType="audio/x-wav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41C-01C3-4D13-9C8F-21E566E3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BF9-3E7E-4623-8293-B9AA46E6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1E5-735A-4B8F-B1E5-1A66C19E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C64-730E-44CF-ACAD-D7290FE1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B864-06D6-470C-A504-5A735A4A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9BAD-01AA-4962-AC85-4904241A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8475-37B3-4D5F-B57D-6C70B542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1596-5DF3-4EA3-B83A-66DF6DA7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F800-645B-4591-8161-7CBC19D2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E0F2-77C7-49BF-86F2-26749333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4941-D929-497C-8BC6-E8EEE462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CFA-C428-4538-8C83-27CFEF19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6DD2-1C7C-4FEA-83CA-EE8B62C2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16EE-EA6D-4E4B-A7AB-A9CC0637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A1BB-22C6-4F02-9F7E-5A1A6F2E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79DD-B755-48CD-A08B-13451DB1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F336-366F-4085-915F-0DA636FD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2C15-0FAD-40FA-8C21-C128AE23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2B9-B6A7-42F8-9662-1A8B5314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373-7379-424C-AD6A-9F32A499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6459-FB97-43E3-B3BE-D78F92C5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0885-2F80-440A-8900-2E743CA0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1BFC-93CE-4F6B-B506-39740E2C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678-205E-499A-B1AD-1F61F5A8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7F38-DA78-4D2D-8D61-052398D8B0A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2641-48CC-4996-ADE2-37C33EDF6C5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e620"/>
                </a:solidFill>
                <a:latin typeface="Arial Black"/>
              </a:rPr>
              <a:t>La ropa y accesor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6477120" cy="51688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6500880" y="2666880"/>
            <a:ext cx="2643120" cy="30481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7086600" y="838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John saporetti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 advTm="15000">
    <p:checker dir="horz"/>
    <p:sndAc>
      <p:stSnd>
        <p:snd r:embed="rId3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343400" cy="5029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la muchacha lleva la camisa azul y rosa. Ella lleva es blue jea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4164120" cy="5257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2590920" y="152280"/>
            <a:ext cx="1752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bel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57" name=""/>
          <p:cNvSpPr/>
          <p:nvPr/>
        </p:nvSpPr>
        <p:spPr>
          <a:xfrm>
            <a:off x="5486400" y="609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rimavara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 advTm="20000">
    <p:checker dir="horz"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 Black"/>
              </a:rPr>
              <a:t>lex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381492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 Black"/>
              </a:rPr>
              <a:t>La muchacha la lleva el taja de ban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733920" cy="37335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114800" y="685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vera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 advTm="20000">
    <p:checker dir="horz"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04920" y="365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ee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019920" y="51055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-609480" y="-838080"/>
            <a:ext cx="9753480" cy="76960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-609480" y="1676520"/>
            <a:ext cx="3886200" cy="32194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3581280" y="2286000"/>
            <a:ext cx="1658880" cy="19335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4876920" y="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 Black"/>
              </a:rPr>
              <a:t>caída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 Black"/>
              </a:rPr>
              <a:t>Wes welke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 advTm="20000">
    <p:checker dir="horz"/>
    <p:sndAc>
      <p:stSnd>
        <p:snd r:embed="rId5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e620"/>
                </a:solidFill>
                <a:latin typeface="Arial Black"/>
              </a:rPr>
              <a:t>Bella/ jos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e620"/>
                </a:solidFill>
                <a:latin typeface="Arial Black"/>
              </a:rPr>
              <a:t>Bella es lleva blanco </a:t>
            </a:r>
            <a:r>
              <a:rPr b="0" lang="es-ES" sz="3200" spc="-1" strike="noStrike">
                <a:solidFill>
                  <a:srgbClr val="46e620"/>
                </a:solidFill>
                <a:latin typeface="Arial Black"/>
              </a:rPr>
              <a:t>sudadera</a:t>
            </a:r>
            <a:r>
              <a:rPr b="0" lang="en-US" sz="3200" spc="-1" strike="noStrike">
                <a:solidFill>
                  <a:srgbClr val="46e620"/>
                </a:solidFill>
                <a:latin typeface="Arial Black"/>
              </a:rPr>
              <a:t> y blue jeans. Jose es lleva negro </a:t>
            </a:r>
            <a:r>
              <a:rPr b="0" lang="es-ES" sz="3200" spc="-1" strike="noStrike">
                <a:solidFill>
                  <a:srgbClr val="46e620"/>
                </a:solidFill>
                <a:latin typeface="Arial Black"/>
              </a:rPr>
              <a:t>sudadera</a:t>
            </a:r>
            <a:r>
              <a:rPr b="0" lang="en-US" sz="3200" spc="-1" strike="noStrike">
                <a:solidFill>
                  <a:srgbClr val="46e620"/>
                </a:solidFill>
                <a:latin typeface="Arial Black"/>
              </a:rPr>
              <a:t> y blue jeans.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029200" y="251460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952880" y="533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winte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3" name="" descr="The Tsinandali Garden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2590920" y="2286000"/>
            <a:ext cx="3889080" cy="38894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0" y="2163600"/>
            <a:ext cx="3429000" cy="34880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5"/>
          <a:stretch/>
        </p:blipFill>
        <p:spPr>
          <a:xfrm>
            <a:off x="0" y="228600"/>
            <a:ext cx="4724280" cy="14000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hecker dir="horz"/>
    <p:sndAc>
      <p:stSnd>
        <p:snd r:embed="rId6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3200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e620"/>
                </a:solidFill>
                <a:latin typeface="Arial Black"/>
              </a:rPr>
              <a:t>becc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 lleva el negro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353040" cy="38959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4724280" y="685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 Black"/>
              </a:rPr>
              <a:t>invier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3:59:43Z</dcterms:created>
  <dc:creator>saporettijoh</dc:creator>
  <dc:description/>
  <dc:language>en-US</dc:language>
  <cp:lastModifiedBy>saporettijoh</cp:lastModifiedBy>
  <dcterms:modified xsi:type="dcterms:W3CDTF">2011-12-14T16:44:31Z</dcterms:modified>
  <cp:revision>7</cp:revision>
  <dc:subject/>
  <dc:title>La ropa y accesories</dc:title>
</cp:coreProperties>
</file>